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42C-4527-49D3-B88E-1242E281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630-3FB4-43A0-9CC4-AB9244DE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22A-485D-4394-B08B-1A920FA4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046-73E7-4ECD-B358-4D8E0C8B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D9E-0FB5-4606-AAE2-81504FE1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CAC-CBB6-43D1-8451-FE2A569D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DE5-D92E-42A2-8A9F-C229202F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3AB-B9FC-45FC-AB7D-0884F481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E9F-2640-47C4-8FF3-34996F73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9D0-0A48-4B62-8E9B-992E0B53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B13-8DBB-486F-8FF4-DA0D2ADB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382A-D6FC-480B-A90C-72D033BF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35524-53EC-4945-AF5F-751B268817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720720"/>
            <a:ext cx="8820360" cy="59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539640"/>
            <a:ext cx="93726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 u="sng">
                <a:solidFill>
                  <a:srgbClr val="ff0000"/>
                </a:solidFill>
                <a:uFillTx/>
                <a:latin typeface="Arial"/>
              </a:rPr>
              <a:t>A CIGARRA E AS FORMIG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um belo dia de inverno as formigas estavam tendo o maior trabalho para secar suas reservas de trigo. Depois de uma chuvarada, os grãos tinham ficado completamente molhados. De repente aparece uma cigar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57520" y="1552680"/>
            <a:ext cx="610380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r favor, formiguinhas, me dêem um pouco de trigo! Estou com uma fome danada, acho que vou morr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00360" y="3780000"/>
            <a:ext cx="1863720" cy="1800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78360" y="3711600"/>
            <a:ext cx="1809720" cy="15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39760" y="984240"/>
            <a:ext cx="641988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 formigas pararam de trabalhar, coisa que era contra os princípios delas, e perguntara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- Mas por quê? O que você fez durante o verão? Por acaso não se lembrou de guardar comida para o invern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20720" y="4140360"/>
            <a:ext cx="4319640" cy="26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20720" y="633240"/>
            <a:ext cx="83358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ara falar a verdade, não tive tempo – respondeu a cigarra. – Passei o verão cantando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- Bom... Se você passou o verão cantando, que tal passar o inverno dançando? – disseram as formigas, e voltaram para o trabalho dando ris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360" y="3780000"/>
            <a:ext cx="91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ral: Os preguiçosos colhem o que merec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49720" y="4049640"/>
            <a:ext cx="1809720" cy="1581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443720" y="4610160"/>
            <a:ext cx="87624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30:19Z</dcterms:created>
  <dc:creator/>
  <dc:description/>
  <dc:language>en-US</dc:language>
  <cp:lastModifiedBy/>
  <dcterms:modified xsi:type="dcterms:W3CDTF">2010-11-25T22:30:05Z</dcterms:modified>
  <cp:revision>2</cp:revision>
  <dc:subject/>
  <dc:title/>
</cp:coreProperties>
</file>